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80480-E8F0-402F-A75F-87311F6776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0A3DD-5227-48C8-A38D-4CDEDC4EDB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8B2-F3F7-4F56-BC85-7A6D8FC9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3EA-D1BC-42B9-8E01-47ED610B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C08-C50A-42B0-84C7-D50C0A38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588-46C3-4118-88DA-C466DC81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EFD-1AAD-4577-93A8-FDEB46B5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993-11CD-410F-B96B-B07A1217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4D1-6769-4211-8E48-53B5F7C4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79A-B8D2-47A2-8AF9-EF20679E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F09-EA18-468D-8619-C3D98DFF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1FF-B00D-4F73-BD25-D8CA0137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B5C-011A-4AA2-B1DF-B3102B4C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FE9-4406-4EEB-BF62-73B9E197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B5912-E26F-4A65-A667-0D26FA0F57F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6" descr="http://www.51edu.com/uploadfile/20141028/14144847008018.jpg"/>
          <p:cNvPicPr/>
          <p:nvPr/>
        </p:nvPicPr>
        <p:blipFill>
          <a:blip r:embed="rId1"/>
          <a:stretch/>
        </p:blipFill>
        <p:spPr>
          <a:xfrm>
            <a:off x="2727360" y="2217600"/>
            <a:ext cx="3892680" cy="30751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09872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3960"/>
              <a:ext cx="911160" cy="9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198240"/>
              <a:ext cx="3186000" cy="111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161080" y="905040"/>
            <a:ext cx="4820760" cy="2028960"/>
            <a:chOff x="2161080" y="905040"/>
            <a:chExt cx="4820760" cy="2028960"/>
          </a:xfrm>
        </p:grpSpPr>
        <p:sp>
          <p:nvSpPr>
            <p:cNvPr id="65" name="Text Box 2"/>
            <p:cNvSpPr/>
            <p:nvPr/>
          </p:nvSpPr>
          <p:spPr>
            <a:xfrm>
              <a:off x="3421080" y="1011240"/>
              <a:ext cx="3560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给   予   树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161080" y="905040"/>
              <a:ext cx="1181880" cy="1180800"/>
              <a:chOff x="2161080" y="905040"/>
              <a:chExt cx="118188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161080" y="9849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31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回家途中，孩子们有什么表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1197000" y="320976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回家途中，孩子们兴高采烈。你给我一点儿暗示，我让你摸摸口袋，不断让别人猜测自己买了什么礼物。只有八岁的小女儿金吉娅沉默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金吉娅为什么只买了一些便宜的棒棒糖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976320" y="2793960"/>
            <a:ext cx="74167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金吉娅发现“给予树”上的卡片后，为了实现一个小女孩心中的愿望，便给小女孩买了洋娃娃。剩下的钱就只够买棒棒糖了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内容占位符 2"/>
          <p:cNvSpPr/>
          <p:nvPr/>
        </p:nvSpPr>
        <p:spPr>
          <a:xfrm>
            <a:off x="773280" y="946080"/>
            <a:ext cx="7992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的“我”看到金吉娅买了棒棒糖后是什么心情？听到了她的讲述后又是什么心情？为什么会有这种变化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1182600" y="2057400"/>
            <a:ext cx="7236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当看见金吉娅买的棒棒糖时，“我”有些生气，同时又有些疑惑；听完金吉娅的讲述后，“我”为金吉娅的“给予”行为和爱心而高兴、感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因为“我”希望孩子们做善良的人，所以“我”很在乎孩子们是否自私，是否懂得关爱他人。开始时，“我”以为金吉娅把钱留起来或另做它用了，所以很生气，后来知道她在帮一个陌生女孩实现愿望，又为她感到高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247920" y="279360"/>
            <a:ext cx="2648160" cy="695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7" name="组合 3"/>
          <p:cNvGrpSpPr/>
          <p:nvPr/>
        </p:nvGrpSpPr>
        <p:grpSpPr>
          <a:xfrm>
            <a:off x="558720" y="844560"/>
            <a:ext cx="2594160" cy="666720"/>
            <a:chOff x="558720" y="844560"/>
            <a:chExt cx="2594160" cy="666720"/>
          </a:xfrm>
        </p:grpSpPr>
        <p:sp>
          <p:nvSpPr>
            <p:cNvPr id="108" name="圆角矩形 15"/>
            <p:cNvSpPr/>
            <p:nvPr/>
          </p:nvSpPr>
          <p:spPr>
            <a:xfrm>
              <a:off x="1374840" y="9824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84456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634040" y="100152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文本框 25"/>
          <p:cNvSpPr/>
          <p:nvPr/>
        </p:nvSpPr>
        <p:spPr>
          <a:xfrm>
            <a:off x="7302960" y="2486160"/>
            <a:ext cx="115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合作才能成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26"/>
          <p:cNvSpPr/>
          <p:nvPr/>
        </p:nvSpPr>
        <p:spPr>
          <a:xfrm>
            <a:off x="801360" y="273420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给予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1823040" y="1555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圣诞来临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30"/>
          <p:cNvSpPr/>
          <p:nvPr/>
        </p:nvSpPr>
        <p:spPr>
          <a:xfrm>
            <a:off x="1760040" y="5386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送出礼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3"/>
          <p:cNvSpPr/>
          <p:nvPr/>
        </p:nvSpPr>
        <p:spPr>
          <a:xfrm>
            <a:off x="1928160" y="3152880"/>
            <a:ext cx="45151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孩子们兴高采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34"/>
          <p:cNvSpPr/>
          <p:nvPr/>
        </p:nvSpPr>
        <p:spPr>
          <a:xfrm>
            <a:off x="2998800" y="3693960"/>
            <a:ext cx="25146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金吉娅沉默不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5"/>
          <p:cNvSpPr/>
          <p:nvPr/>
        </p:nvSpPr>
        <p:spPr>
          <a:xfrm>
            <a:off x="2998800" y="5665680"/>
            <a:ext cx="342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金吉娅送洋娃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左大括号 36"/>
          <p:cNvSpPr/>
          <p:nvPr/>
        </p:nvSpPr>
        <p:spPr>
          <a:xfrm>
            <a:off x="1450800" y="1649520"/>
            <a:ext cx="182880" cy="4198680"/>
          </a:xfrm>
          <a:custGeom>
            <a:avLst/>
            <a:gdLst>
              <a:gd name="textAreaLeft" fmla="*/ 117000 w 182880"/>
              <a:gd name="textAreaRight" fmla="*/ 183240 w 182880"/>
              <a:gd name="textAreaTop" fmla="*/ 4680 h 4198680"/>
              <a:gd name="textAreaBottom" fmla="*/ 4194000 h 41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"/>
                  <a:pt x="10800" y="78"/>
                </a:cubicBezTo>
                <a:lnTo>
                  <a:pt x="10800" y="10722"/>
                </a:lnTo>
                <a:cubicBezTo>
                  <a:pt x="10800" y="10761"/>
                  <a:pt x="5400" y="10800"/>
                  <a:pt x="0" y="10800"/>
                </a:cubicBezTo>
                <a:cubicBezTo>
                  <a:pt x="5400" y="10800"/>
                  <a:pt x="10800" y="10839"/>
                  <a:pt x="10800" y="10878"/>
                </a:cubicBezTo>
                <a:lnTo>
                  <a:pt x="10800" y="21522"/>
                </a:lnTo>
                <a:cubicBezTo>
                  <a:pt x="10800" y="2156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右大括号 37"/>
          <p:cNvSpPr/>
          <p:nvPr/>
        </p:nvSpPr>
        <p:spPr>
          <a:xfrm flipH="1" rot="10800000">
            <a:off x="7576200" y="1649160"/>
            <a:ext cx="239400" cy="4198680"/>
          </a:xfrm>
          <a:custGeom>
            <a:avLst/>
            <a:gdLst>
              <a:gd name="textAreaLeft" fmla="*/ -360 w 239400"/>
              <a:gd name="textAreaRight" fmla="*/ 86040 w 239400"/>
              <a:gd name="textAreaTop" fmla="*/ 6120 h 4198680"/>
              <a:gd name="textAreaBottom" fmla="*/ 4192560 h 41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16200" y="10800"/>
                  <a:pt x="21600" y="10800"/>
                </a:cubicBezTo>
                <a:cubicBezTo>
                  <a:pt x="162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左大括号 38"/>
          <p:cNvSpPr/>
          <p:nvPr/>
        </p:nvSpPr>
        <p:spPr>
          <a:xfrm>
            <a:off x="3195720" y="1341360"/>
            <a:ext cx="166680" cy="932040"/>
          </a:xfrm>
          <a:custGeom>
            <a:avLst/>
            <a:gdLst>
              <a:gd name="textAreaLeft" fmla="*/ 106560 w 166680"/>
              <a:gd name="textAreaRight" fmla="*/ 166680 w 166680"/>
              <a:gd name="textAreaTop" fmla="*/ 2520 h 932040"/>
              <a:gd name="textAreaBottom" fmla="*/ 929520 h 93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9"/>
                  <a:pt x="10800" y="197"/>
                </a:cubicBezTo>
                <a:lnTo>
                  <a:pt x="10800" y="10603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9"/>
                  <a:pt x="10800" y="10997"/>
                </a:cubicBezTo>
                <a:lnTo>
                  <a:pt x="10800" y="21403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39"/>
          <p:cNvSpPr/>
          <p:nvPr/>
        </p:nvSpPr>
        <p:spPr>
          <a:xfrm>
            <a:off x="3295800" y="1778040"/>
            <a:ext cx="342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试探心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40"/>
          <p:cNvSpPr/>
          <p:nvPr/>
        </p:nvSpPr>
        <p:spPr>
          <a:xfrm>
            <a:off x="4890960" y="1517760"/>
            <a:ext cx="25434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手足之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41"/>
          <p:cNvSpPr/>
          <p:nvPr/>
        </p:nvSpPr>
        <p:spPr>
          <a:xfrm>
            <a:off x="3295800" y="1177920"/>
            <a:ext cx="22269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热烈讨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1760040" y="33796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采购礼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左大括号 43"/>
          <p:cNvSpPr/>
          <p:nvPr/>
        </p:nvSpPr>
        <p:spPr>
          <a:xfrm>
            <a:off x="2874960" y="5153040"/>
            <a:ext cx="166680" cy="1025640"/>
          </a:xfrm>
          <a:custGeom>
            <a:avLst/>
            <a:gdLst>
              <a:gd name="textAreaLeft" fmla="*/ 106560 w 166680"/>
              <a:gd name="textAreaRight" fmla="*/ 166680 w 166680"/>
              <a:gd name="textAreaTop" fmla="*/ 2520 h 1025640"/>
              <a:gd name="textAreaBottom" fmla="*/ 1023120 h 102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44"/>
          <p:cNvSpPr/>
          <p:nvPr/>
        </p:nvSpPr>
        <p:spPr>
          <a:xfrm>
            <a:off x="2998800" y="5013360"/>
            <a:ext cx="3105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陌生女孩盼望洋娃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左大括号 45"/>
          <p:cNvSpPr/>
          <p:nvPr/>
        </p:nvSpPr>
        <p:spPr>
          <a:xfrm>
            <a:off x="2897280" y="3263760"/>
            <a:ext cx="166680" cy="932040"/>
          </a:xfrm>
          <a:custGeom>
            <a:avLst/>
            <a:gdLst>
              <a:gd name="textAreaLeft" fmla="*/ 106560 w 166680"/>
              <a:gd name="textAreaRight" fmla="*/ 166680 w 166680"/>
              <a:gd name="textAreaTop" fmla="*/ 2520 h 932040"/>
              <a:gd name="textAreaBottom" fmla="*/ 929520 h 93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9"/>
                  <a:pt x="10800" y="197"/>
                </a:cubicBezTo>
                <a:lnTo>
                  <a:pt x="10800" y="10603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9"/>
                  <a:pt x="10800" y="10997"/>
                </a:cubicBezTo>
                <a:lnTo>
                  <a:pt x="10800" y="21403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6"/>
          <p:cNvSpPr/>
          <p:nvPr/>
        </p:nvSpPr>
        <p:spPr>
          <a:xfrm>
            <a:off x="5524560" y="3409920"/>
            <a:ext cx="25430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声之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47"/>
          <p:cNvSpPr/>
          <p:nvPr/>
        </p:nvSpPr>
        <p:spPr>
          <a:xfrm>
            <a:off x="6134040" y="5329080"/>
            <a:ext cx="25434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仁慈之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左大括号 48"/>
          <p:cNvSpPr/>
          <p:nvPr/>
        </p:nvSpPr>
        <p:spPr>
          <a:xfrm flipH="1">
            <a:off x="5360400" y="3263760"/>
            <a:ext cx="158760" cy="959040"/>
          </a:xfrm>
          <a:custGeom>
            <a:avLst/>
            <a:gdLst>
              <a:gd name="textAreaLeft" fmla="*/ 101160 w 158760"/>
              <a:gd name="textAreaRight" fmla="*/ 158760 w 158760"/>
              <a:gd name="textAreaTop" fmla="*/ 2520 h 959040"/>
              <a:gd name="textAreaBottom" fmla="*/ 956520 h 95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3"/>
                </a:cubicBezTo>
                <a:lnTo>
                  <a:pt x="10800" y="10617"/>
                </a:lnTo>
                <a:cubicBezTo>
                  <a:pt x="10800" y="10709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3"/>
                </a:cubicBezTo>
                <a:lnTo>
                  <a:pt x="10800" y="21417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左大括号 49"/>
          <p:cNvSpPr/>
          <p:nvPr/>
        </p:nvSpPr>
        <p:spPr>
          <a:xfrm flipH="1">
            <a:off x="4717440" y="1349280"/>
            <a:ext cx="158760" cy="960480"/>
          </a:xfrm>
          <a:custGeom>
            <a:avLst/>
            <a:gdLst>
              <a:gd name="textAreaLeft" fmla="*/ 101160 w 158760"/>
              <a:gd name="textAreaRight" fmla="*/ 158760 w 158760"/>
              <a:gd name="textAreaTop" fmla="*/ 2520 h 960480"/>
              <a:gd name="textAreaBottom" fmla="*/ 957960 h 96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1"/>
                  <a:pt x="10800" y="182"/>
                </a:cubicBezTo>
                <a:lnTo>
                  <a:pt x="10800" y="10618"/>
                </a:lnTo>
                <a:cubicBezTo>
                  <a:pt x="10800" y="10709"/>
                  <a:pt x="5400" y="10800"/>
                  <a:pt x="0" y="10800"/>
                </a:cubicBezTo>
                <a:cubicBezTo>
                  <a:pt x="5400" y="10800"/>
                  <a:pt x="10800" y="10891"/>
                  <a:pt x="10800" y="10982"/>
                </a:cubicBezTo>
                <a:lnTo>
                  <a:pt x="10800" y="21418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左大括号 50"/>
          <p:cNvSpPr/>
          <p:nvPr/>
        </p:nvSpPr>
        <p:spPr>
          <a:xfrm flipH="1">
            <a:off x="5944320" y="5178600"/>
            <a:ext cx="158760" cy="960120"/>
          </a:xfrm>
          <a:custGeom>
            <a:avLst/>
            <a:gdLst>
              <a:gd name="textAreaLeft" fmla="*/ 101160 w 158760"/>
              <a:gd name="textAreaRight" fmla="*/ 158760 w 158760"/>
              <a:gd name="textAreaTop" fmla="*/ 2520 h 960120"/>
              <a:gd name="textAreaBottom" fmla="*/ 957600 h 96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1"/>
                  <a:pt x="10800" y="182"/>
                </a:cubicBezTo>
                <a:lnTo>
                  <a:pt x="10800" y="10618"/>
                </a:lnTo>
                <a:cubicBezTo>
                  <a:pt x="10800" y="10709"/>
                  <a:pt x="5400" y="10800"/>
                  <a:pt x="0" y="10800"/>
                </a:cubicBezTo>
                <a:cubicBezTo>
                  <a:pt x="5400" y="10800"/>
                  <a:pt x="10800" y="10891"/>
                  <a:pt x="10800" y="10982"/>
                </a:cubicBezTo>
                <a:lnTo>
                  <a:pt x="10800" y="21418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内容占位符 2"/>
          <p:cNvSpPr/>
          <p:nvPr/>
        </p:nvSpPr>
        <p:spPr>
          <a:xfrm>
            <a:off x="982800" y="2384280"/>
            <a:ext cx="704196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写的是在圣诞节前夕，小女儿金吉娅用给家人买礼物的钱买了一个洋娃娃，送给了一个素不相识的需要帮助的女孩。赞美了金吉娅的仁爱和善良的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5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6" descr=""/>
          <p:cNvPicPr/>
          <p:nvPr/>
        </p:nvPicPr>
        <p:blipFill>
          <a:blip r:embed="rId1"/>
          <a:stretch/>
        </p:blipFill>
        <p:spPr>
          <a:xfrm>
            <a:off x="3284640" y="311040"/>
            <a:ext cx="2585880" cy="601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9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0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内容占位符 2"/>
          <p:cNvSpPr/>
          <p:nvPr/>
        </p:nvSpPr>
        <p:spPr>
          <a:xfrm>
            <a:off x="942840" y="1757520"/>
            <a:ext cx="77853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母亲的存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林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天，女儿放学回家，突然没头没脑地问了一句：“妈妈，我们家有多少存款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等我作答，她又继续说道：“他们都说咱家至少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元。” 我奇怪地看着女儿：“你说的‘他们’是谁呀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班同学。他们都说你一本书能赚十几万稿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内容占位符 2"/>
          <p:cNvSpPr/>
          <p:nvPr/>
        </p:nvSpPr>
        <p:spPr>
          <a:xfrm>
            <a:off x="919080" y="1330200"/>
            <a:ext cx="7535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出那么多书，所以咱们家应该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吧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摇摇头，说：“没有。女儿脸上忍不住地失望，两眼盯着我，有些不相信似的问：“为什么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为……” 我抬手一指房子，屋里的家具、电器，还有她手里正在摆弄的快译通，道：“这些不都是钱吗？钱是流通品，哪有像你们这样只算收入不算支出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女儿眨眨眼睛，仍不死心，固执地问道：“如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内容占位符 2"/>
          <p:cNvSpPr/>
          <p:nvPr/>
        </p:nvSpPr>
        <p:spPr>
          <a:xfrm>
            <a:off x="919080" y="1365120"/>
            <a:ext cx="7535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把房子、家具、存款都算上，够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吧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点点头。女儿脸上立即绽开笑容，拍手称快道：“这么说，我是我们班第三有钱的人了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这才明白她为什么问这个，一定是同学之间攀比，搞什么财富排行榜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立刻纠正她：“不对，这些是妈妈的钱，不是你的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我是你的女儿呀！将来，将来——”女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内容占位符 2"/>
          <p:cNvSpPr/>
          <p:nvPr/>
        </p:nvSpPr>
        <p:spPr>
          <a:xfrm>
            <a:off x="919080" y="1389240"/>
            <a:ext cx="7535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瞅瞅我，不往下说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接过话，替她说道：“等将来我不在了，这些钱就是你的，对不对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女儿脸涨得通红，转过身，掩饰说：“我不是这个意思，都是我们同学，一天没事瞎猜，无聊！不说这个了，我要写作业了。”说完，女儿急忙回自己房间去了。望着她的背影，我若有所思。没错，作为我的法定继承人，我现在所有的财产，在未来的某一天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内容占位符 2"/>
          <p:cNvSpPr/>
          <p:nvPr/>
        </p:nvSpPr>
        <p:spPr>
          <a:xfrm>
            <a:off x="919080" y="1378080"/>
            <a:ext cx="7535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势必将属于女儿，这是不争的事实。只不过国人目前还不习惯、也不好意思和自己的继承人公开谈论遗产这样十分敏感的事，而同样的问题在西方许多家庭，就比我们开明得多，有时在餐桌上就公开谈论。我想这主要是因为以前中国一直实行计划经济，一切财产都是国家的。我的父母工作了一生，一直都是无产者，直到退休前才因房改买下自己居住的房子，终于有了自己名下的财产。但是，和我们这些在市场经济环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906480" y="2381400"/>
            <a:ext cx="7764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理解课文内容，体会金吉娅的善良、仁爱、同情和体贴的特点，感受富有爱心给人们带来的真情和快乐。 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内容占位符 2"/>
          <p:cNvSpPr/>
          <p:nvPr/>
        </p:nvSpPr>
        <p:spPr>
          <a:xfrm>
            <a:off x="919080" y="1353960"/>
            <a:ext cx="7535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下生活的子女相比，他们那点有限的“资产”实在少得可怜。也因此，我从未期望父母给我留下什么，相反，我倒很想在金钱方面给予父母一些，我知道，他们几乎没有存款。但是固执的父母总是拒绝，没办法，我只好先用我的名字存在银行，我想他们以后总会用上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年春节，我回家过年，哥哥、妹妹也都回去了，举家团圆，最高兴的自然是母亲。没想到，因为兴奋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内容占位符 2"/>
          <p:cNvSpPr/>
          <p:nvPr/>
        </p:nvSpPr>
        <p:spPr>
          <a:xfrm>
            <a:off x="919080" y="1378080"/>
            <a:ext cx="7535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上连日来操劳，睡眠不好，母亲起夜时突然晕倒了！幸亏发现及时，送去医院，最后总算安然无恙，但精神大不如前。时常神情恍惚，丢三落四。所以，尽管假期已过，我却不放心走。母亲虽然舍不得我走，但是一向要强的她不愿意我因为她的缘故耽误工作，她强打精神，装出一副精力充沛的样子，说自己完全好了，催促我早点走。我拗不过母亲，只好去订机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行前，母亲把我叫到床前，我一眼就看见她枕头旁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内容占位符 2"/>
          <p:cNvSpPr/>
          <p:nvPr/>
        </p:nvSpPr>
        <p:spPr>
          <a:xfrm>
            <a:off x="919080" y="1295280"/>
            <a:ext cx="7535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着一个首饰盒，有半块砖头大小，用一块红绸缎布包着，不禁一愣。小时候有一次趁父母不在我乱翻东西，曾见过这个首饰盒，正想打开却被下班回家的母亲看到，被严厉地训斥了一顿，从此再没见过，不知道母亲把它藏到哪儿去了。我猜里面一定装着母亲最心爱的宝贝。会是什么呢？肯定不会是钱或存折。母亲的钱总是装进工资袋放在抽屉里，一到月底就没了，很少有剩余。最有可能的是首饰，因为祖父以前在天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内容占位符 2"/>
          <p:cNvSpPr/>
          <p:nvPr/>
        </p:nvSpPr>
        <p:spPr>
          <a:xfrm>
            <a:off x="919080" y="1317600"/>
            <a:ext cx="7535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做盐道生意，家里曾相当有财势，虽然后来败落了，但留下个金戒指、玉手镯什么的，应不足为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正猜测不解，母亲已经解开外面的红绸缎布，露出里面暗红丝面的首饰盒。她一摁上面的按钮，“叭” 的一声，首饰盒开了！母亲从里面拿出一个小绸布包，深深地看了一会儿，像是看什么宝物，然后，慢慢抬起头，看着我，缓缓道：“这里面装着你出生时的胎发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时掉的乳牙，还有一张百日照，照片背面记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内容占位符 2"/>
          <p:cNvSpPr/>
          <p:nvPr/>
        </p:nvSpPr>
        <p:spPr>
          <a:xfrm>
            <a:off x="919080" y="1317600"/>
            <a:ext cx="7535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的出生时辰。我一直替你留着，现在，我年纪大了，你拿去自己保留吧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接过来，小心翼翼地打开。于是，我看到了自己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前出生时的胎发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前掉下的乳牙，和来到世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时拍的照片。照片已经有些发黄了，背面的字迹也已模糊，但依然能辨认出来。一瞬间，我泪眼模糊。我意识到：这就是母亲的“存折”，里面装着母亲的全部财产，没有一样贵重的东西，但是对我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内容占位符 2"/>
          <p:cNvSpPr/>
          <p:nvPr/>
        </p:nvSpPr>
        <p:spPr>
          <a:xfrm>
            <a:off x="919080" y="1104840"/>
            <a:ext cx="7535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一样都珍贵无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带着母亲的“存折”，我踏上归程。一路上，感慨万千。我知道，和母亲相比，我是富有的，母亲这一生永远不可能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元存款了！对她来说，那是一个天文数字，她想都不曾想过。和我相比，女儿是富有的，她一出生就拥有的东西，是我拼搏多年才得到的。但是，女儿却永远也不可能像我一样，拥有自己的胎发、乳牙了。这些记载她生命的收据，让一路奔波的我遗失在逝去的岁月里，再也找不回来了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987480" y="2011320"/>
            <a:ext cx="723420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吾老以及人之老，幼吾幼以及人之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孟子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梁惠王上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慈母手中线，游子身上衣。临行密密缝，意恐迟迟归。谁言寸草心，报得三春晖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ī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游子吟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孟郊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6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0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内容占位符 2"/>
          <p:cNvSpPr/>
          <p:nvPr/>
        </p:nvSpPr>
        <p:spPr>
          <a:xfrm>
            <a:off x="1036800" y="2997360"/>
            <a:ext cx="766764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国古代著名的教子故事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孟母三迁、岳母刺字、断机教子、画荻教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2"/>
          <p:cNvSpPr/>
          <p:nvPr/>
        </p:nvSpPr>
        <p:spPr>
          <a:xfrm>
            <a:off x="825480" y="174312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个故事真感人，我要好好读一读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114560" y="2389320"/>
            <a:ext cx="69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圣诞节前夕是人们最快乐的日子，也是充满了浓浓爱心的日子。课文中写了母爱、手足之爱以及金吉娅对陌生女孩的爱。金吉娅拿着并不多的钱，本来要给家人买圣诞礼物，但当她发现“给予树”上的卡片后，便毅然给陌生女孩买了洋娃娃。金吉娅“给予”的不光是礼物，还有同情和爱心。我们被课文中洋溢的爱深深地感动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2"/>
          <p:cNvSpPr/>
          <p:nvPr/>
        </p:nvSpPr>
        <p:spPr>
          <a:xfrm>
            <a:off x="825480" y="131616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母亲的心情有什么变化？为什么会有这种变化？让我们来交流一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51000" y="2359080"/>
            <a:ext cx="711504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在圣诞节来临前，母亲担心因为家里不宽裕，没有更多的钱让孩子们购买礼物；当看见金吉娅买的棒棒糖时，母亲有些生气，同时又有些疑惑；听完金吉娅的讲述后，母亲为金吉娅的“给予”行为和爱心感到高兴、激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因为母亲希望金吉娅做一个善良有爱心的孩子。开始，她以为金吉娅只买一些棒棒糖而把剩下的钱留下了，或者干别的用了，所以很生气，后来听说是给陌生女孩买了洋娃娃，母亲又为金吉娅而高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内容占位符 2"/>
          <p:cNvSpPr/>
          <p:nvPr/>
        </p:nvSpPr>
        <p:spPr>
          <a:xfrm>
            <a:off x="782640" y="1897200"/>
            <a:ext cx="77929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黑体"/>
              </a:rPr>
              <a:t>课文围绕“给予树”讲了一个怎样的故事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回家途中，孩子们有什么表现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金吉娅为什么只买了一些便宜的棒棒糖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文中的“我”看到金吉娅买了棒棒糖后是什么心情？听到了她的讲述后又是什么心情？为什么会有这种变化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2"/>
          <p:cNvSpPr/>
          <p:nvPr/>
        </p:nvSpPr>
        <p:spPr>
          <a:xfrm>
            <a:off x="857160" y="131616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要把课文最后一句抄下来，再好好体会体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076400" y="194796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个圣诞节，她不但送给我们棒棒糖，还送给我们善良、仁爱、同情和体贴，以及一个陌生女孩如愿以偿的笑脸。体会：金吉娅的善良和同情，让我深深地为之感动，并受到感染和熏陶，今后我也要像她一样去关爱别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2"/>
          <p:cNvSpPr/>
          <p:nvPr/>
        </p:nvSpPr>
        <p:spPr>
          <a:xfrm>
            <a:off x="809640" y="131616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要替那个小女孩写几句感谢的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076400" y="194796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亲爱的金吉娅，感谢你送给我洋娃娃，这是我盼望已久的圣诞礼物。谢谢你让我度过了一个难忘的圣诞节。这份礼物，让我知道你是一个善良、仁爱、体贴的好姐姐。我也要做一个善良的孩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6"/>
          <p:cNvSpPr/>
          <p:nvPr/>
        </p:nvSpPr>
        <p:spPr>
          <a:xfrm>
            <a:off x="-4782960" y="3500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-4972320" y="1062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　　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6" name="矩形 21"/>
          <p:cNvSpPr/>
          <p:nvPr/>
        </p:nvSpPr>
        <p:spPr>
          <a:xfrm>
            <a:off x="1547640" y="2049480"/>
            <a:ext cx="6491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横线选出加点字的正确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偿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á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án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ǔ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ē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ǎn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ǎ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u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è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èn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　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1565640" y="321300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34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1"/>
          <p:cNvSpPr/>
          <p:nvPr/>
        </p:nvSpPr>
        <p:spPr>
          <a:xfrm>
            <a:off x="1854360" y="378612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34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2"/>
          <p:cNvSpPr/>
          <p:nvPr/>
        </p:nvSpPr>
        <p:spPr>
          <a:xfrm>
            <a:off x="1549800" y="430848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34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3"/>
          <p:cNvSpPr/>
          <p:nvPr/>
        </p:nvSpPr>
        <p:spPr>
          <a:xfrm>
            <a:off x="4664520" y="435456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34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4"/>
          <p:cNvSpPr/>
          <p:nvPr/>
        </p:nvSpPr>
        <p:spPr>
          <a:xfrm>
            <a:off x="4834440" y="375768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34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5"/>
          <p:cNvSpPr/>
          <p:nvPr/>
        </p:nvSpPr>
        <p:spPr>
          <a:xfrm>
            <a:off x="5059800" y="321156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34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29"/>
          <p:cNvSpPr/>
          <p:nvPr/>
        </p:nvSpPr>
        <p:spPr>
          <a:xfrm>
            <a:off x="2438640" y="327492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30"/>
          <p:cNvSpPr/>
          <p:nvPr/>
        </p:nvSpPr>
        <p:spPr>
          <a:xfrm>
            <a:off x="3400920" y="38210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31"/>
          <p:cNvSpPr/>
          <p:nvPr/>
        </p:nvSpPr>
        <p:spPr>
          <a:xfrm>
            <a:off x="3111840" y="43545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34"/>
          <p:cNvSpPr/>
          <p:nvPr/>
        </p:nvSpPr>
        <p:spPr>
          <a:xfrm>
            <a:off x="5448240" y="435456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35"/>
          <p:cNvSpPr/>
          <p:nvPr/>
        </p:nvSpPr>
        <p:spPr>
          <a:xfrm>
            <a:off x="6368400" y="38210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36"/>
          <p:cNvSpPr/>
          <p:nvPr/>
        </p:nvSpPr>
        <p:spPr>
          <a:xfrm>
            <a:off x="5698080" y="327492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449360" y="306720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444680" y="447984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305160" y="30621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300480" y="447516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159520" y="305604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154480" y="44704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矩形 3"/>
          <p:cNvSpPr/>
          <p:nvPr/>
        </p:nvSpPr>
        <p:spPr>
          <a:xfrm>
            <a:off x="1492200" y="1746360"/>
            <a:ext cx="686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读拼音，写词语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uān   yù         cāi   cè          chén   m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én    ài             tǐ      tiē         táng  gu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-4782960" y="3500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7"/>
          <p:cNvSpPr/>
          <p:nvPr/>
        </p:nvSpPr>
        <p:spPr>
          <a:xfrm>
            <a:off x="-4972320" y="1062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　　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1"/>
          <p:cNvSpPr/>
          <p:nvPr/>
        </p:nvSpPr>
        <p:spPr>
          <a:xfrm>
            <a:off x="1460520" y="312120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宽 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3284640" y="308304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猜 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3"/>
          <p:cNvSpPr/>
          <p:nvPr/>
        </p:nvSpPr>
        <p:spPr>
          <a:xfrm>
            <a:off x="5371920" y="3083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沉 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4"/>
          <p:cNvSpPr/>
          <p:nvPr/>
        </p:nvSpPr>
        <p:spPr>
          <a:xfrm>
            <a:off x="1661760" y="4532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仁 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1"/>
          <p:cNvSpPr/>
          <p:nvPr/>
        </p:nvSpPr>
        <p:spPr>
          <a:xfrm>
            <a:off x="3516840" y="4505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体 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7"/>
          <p:cNvSpPr/>
          <p:nvPr/>
        </p:nvSpPr>
        <p:spPr>
          <a:xfrm>
            <a:off x="5371920" y="4513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糖 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3"/>
          <p:cNvSpPr/>
          <p:nvPr/>
        </p:nvSpPr>
        <p:spPr>
          <a:xfrm>
            <a:off x="1374840" y="2201760"/>
            <a:ext cx="695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在括号里填上合适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祝福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礼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讨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笑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拥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笑脸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　　　　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47"/>
          <p:cNvSpPr/>
          <p:nvPr/>
        </p:nvSpPr>
        <p:spPr>
          <a:xfrm>
            <a:off x="1963440" y="296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诚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8"/>
          <p:cNvSpPr/>
          <p:nvPr/>
        </p:nvSpPr>
        <p:spPr>
          <a:xfrm>
            <a:off x="4982760" y="296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珍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49"/>
          <p:cNvSpPr/>
          <p:nvPr/>
        </p:nvSpPr>
        <p:spPr>
          <a:xfrm>
            <a:off x="1963440" y="34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热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50"/>
          <p:cNvSpPr/>
          <p:nvPr/>
        </p:nvSpPr>
        <p:spPr>
          <a:xfrm>
            <a:off x="4982760" y="3449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甜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51"/>
          <p:cNvSpPr/>
          <p:nvPr/>
        </p:nvSpPr>
        <p:spPr>
          <a:xfrm>
            <a:off x="1963440" y="405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紧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52"/>
          <p:cNvSpPr/>
          <p:nvPr/>
        </p:nvSpPr>
        <p:spPr>
          <a:xfrm>
            <a:off x="4799880" y="4022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如愿以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8"/>
          <p:cNvSpPr/>
          <p:nvPr/>
        </p:nvSpPr>
        <p:spPr>
          <a:xfrm>
            <a:off x="495360" y="1252440"/>
            <a:ext cx="820908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四、句子练习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们怎么可能买到很多很好的礼物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为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了　孩子　美元　每个　我　二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连字词成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她送给我们棒棒糖。她送给我们善良、仁爱、同情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贴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关联词连成一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9"/>
          <p:cNvSpPr/>
          <p:nvPr/>
        </p:nvSpPr>
        <p:spPr>
          <a:xfrm>
            <a:off x="1155600" y="2349360"/>
            <a:ext cx="70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他们不可能买到很多很好的礼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"/>
          <p:cNvSpPr/>
          <p:nvPr/>
        </p:nvSpPr>
        <p:spPr>
          <a:xfrm>
            <a:off x="1141560" y="3471840"/>
            <a:ext cx="51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我给了每个孩子二十美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1"/>
          <p:cNvSpPr/>
          <p:nvPr/>
        </p:nvSpPr>
        <p:spPr>
          <a:xfrm>
            <a:off x="1216080" y="4956120"/>
            <a:ext cx="69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她不但送给我们棒棒糖，还送给我们善良、仁爱、同情和体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8260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5" name="矩形 2"/>
          <p:cNvSpPr/>
          <p:nvPr/>
        </p:nvSpPr>
        <p:spPr>
          <a:xfrm>
            <a:off x="1311120" y="1998720"/>
            <a:ext cx="69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让我担心的是，家里并不宽裕，我只攒了一百美元，却要由五个孩子来分享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ǎng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他们怎么可能买到很多很好的礼物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云形 6"/>
          <p:cNvGrpSpPr/>
          <p:nvPr/>
        </p:nvGrpSpPr>
        <p:grpSpPr>
          <a:xfrm>
            <a:off x="3895560" y="646200"/>
            <a:ext cx="4741920" cy="1560600"/>
            <a:chOff x="3895560" y="646200"/>
            <a:chExt cx="4741920" cy="1560600"/>
          </a:xfrm>
        </p:grpSpPr>
        <p:pic>
          <p:nvPicPr>
            <p:cNvPr id="77" name="云形 6" descr=""/>
            <p:cNvPicPr/>
            <p:nvPr/>
          </p:nvPicPr>
          <p:blipFill>
            <a:blip r:embed="rId2"/>
            <a:stretch/>
          </p:blipFill>
          <p:spPr>
            <a:xfrm>
              <a:off x="3895560" y="646200"/>
              <a:ext cx="474192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656240" y="958680"/>
              <a:ext cx="290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这句话运用什么修辞手法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矩形 7"/>
          <p:cNvSpPr/>
          <p:nvPr/>
        </p:nvSpPr>
        <p:spPr>
          <a:xfrm>
            <a:off x="1360440" y="3822840"/>
            <a:ext cx="69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采用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反问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修辞方法，表达了母亲的无奈和对孩子们深深的爱意。“只攒了一百美元”说明了“我”攒的钱太少。“却要由五个孩子来分享”表现了要分享这笔钱的孩子太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1311120" y="1998720"/>
            <a:ext cx="69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回家途中，孩子们兴高采烈。你给我一点儿暗示，我让你摸摸口袋，不断让别人猜测自己买了什么礼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云形 8"/>
          <p:cNvGrpSpPr/>
          <p:nvPr/>
        </p:nvGrpSpPr>
        <p:grpSpPr>
          <a:xfrm>
            <a:off x="3895560" y="1133640"/>
            <a:ext cx="4967280" cy="987120"/>
            <a:chOff x="3895560" y="1133640"/>
            <a:chExt cx="4967280" cy="987120"/>
          </a:xfrm>
        </p:grpSpPr>
        <p:pic>
          <p:nvPicPr>
            <p:cNvPr id="82" name="云形 8" descr=""/>
            <p:cNvPicPr/>
            <p:nvPr/>
          </p:nvPicPr>
          <p:blipFill>
            <a:blip r:embed="rId1"/>
            <a:stretch/>
          </p:blipFill>
          <p:spPr>
            <a:xfrm>
              <a:off x="3895560" y="1133640"/>
              <a:ext cx="496728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687920" y="1363680"/>
              <a:ext cx="30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从哪些方面来写人物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矩形 9"/>
          <p:cNvSpPr/>
          <p:nvPr/>
        </p:nvSpPr>
        <p:spPr>
          <a:xfrm>
            <a:off x="1360440" y="3571920"/>
            <a:ext cx="69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动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神态描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写出了孩子们买完礼物后回家时兴奋的情形。表现了手足之爱，也与下面金吉娅的表现形成对比。“暗示”“摸摸”“猜测”写出了孩子们的天真可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21"/>
          <p:cNvSpPr/>
          <p:nvPr/>
        </p:nvSpPr>
        <p:spPr>
          <a:xfrm>
            <a:off x="95400" y="963720"/>
            <a:ext cx="887544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对比的手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23"/>
          <p:cNvSpPr/>
          <p:nvPr/>
        </p:nvSpPr>
        <p:spPr>
          <a:xfrm>
            <a:off x="903240" y="1846440"/>
            <a:ext cx="734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概念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把两个相反、相对的事物或同一事物相反、相对的两个方面放在一起比较的一种写作手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作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突出被表现事物的本质特征，使其形象更鲜明，读者印象更深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答题模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用对比手法，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比较，突出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1311120" y="1998720"/>
            <a:ext cx="66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有八岁的小女儿金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í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娅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沉默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ò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云形 5"/>
          <p:cNvGrpSpPr/>
          <p:nvPr/>
        </p:nvGrpSpPr>
        <p:grpSpPr>
          <a:xfrm>
            <a:off x="3895560" y="646200"/>
            <a:ext cx="4741920" cy="1560600"/>
            <a:chOff x="3895560" y="646200"/>
            <a:chExt cx="4741920" cy="1560600"/>
          </a:xfrm>
        </p:grpSpPr>
        <p:pic>
          <p:nvPicPr>
            <p:cNvPr id="90" name="云形 5" descr=""/>
            <p:cNvPicPr/>
            <p:nvPr/>
          </p:nvPicPr>
          <p:blipFill>
            <a:blip r:embed="rId1"/>
            <a:stretch/>
          </p:blipFill>
          <p:spPr>
            <a:xfrm>
              <a:off x="3895560" y="646200"/>
              <a:ext cx="474192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656240" y="958680"/>
              <a:ext cx="290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金吉娅为什么沉默不语 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矩形 6"/>
          <p:cNvSpPr/>
          <p:nvPr/>
        </p:nvSpPr>
        <p:spPr>
          <a:xfrm>
            <a:off x="1360440" y="3019320"/>
            <a:ext cx="67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金吉娅内心很难过。与哥哥姐姐的兴高采烈形成鲜明对比：一方面她为没能给大家买到更好的礼物而难过；另一方面，她也害怕妈妈责怪她乱花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885960" y="1827360"/>
            <a:ext cx="768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金吉娅在给小女孩买洋娃娃时，心里会怎么想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24" descr="花盆.png"/>
          <p:cNvPicPr/>
          <p:nvPr/>
        </p:nvPicPr>
        <p:blipFill>
          <a:blip r:embed="rId1"/>
          <a:stretch/>
        </p:blipFill>
        <p:spPr>
          <a:xfrm>
            <a:off x="642960" y="19810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95" name="矩形 6"/>
          <p:cNvSpPr/>
          <p:nvPr/>
        </p:nvSpPr>
        <p:spPr>
          <a:xfrm>
            <a:off x="965160" y="2906640"/>
            <a:ext cx="74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的家人能得到许多礼物，而这个小女孩什么都没有，如果哥哥姐姐知道这件事，他们肯定会原谅我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993600" y="3324240"/>
            <a:ext cx="73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圣诞节到来之前，小女儿金吉娅用给家人买礼物的钱买了一个洋娃娃，送给了一个素不相识的需要帮助的小女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977760" y="2610000"/>
            <a:ext cx="74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文围绕“给予树”讲了一个怎样的故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/>
  <dc:description/>
  <dc:language>en-US</dc:language>
  <cp:lastModifiedBy>Administrator</cp:lastModifiedBy>
  <dcterms:modified xsi:type="dcterms:W3CDTF">2017-12-20T15:46:35Z</dcterms:modified>
  <cp:revision>45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